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8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70400"/>
            <a:ext cx="54864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9"/>
          </p:nvPr>
        </p:nvSpPr>
        <p:spPr>
          <a:xfrm>
            <a:off x="-36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10"/>
          </p:nvPr>
        </p:nvSpPr>
        <p:spPr>
          <a:xfrm>
            <a:off x="3884400" y="873720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1482-918B-4505-87D9-06F2DCE75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685880" y="690480"/>
            <a:ext cx="3487680" cy="2614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533160" y="3610080"/>
            <a:ext cx="563868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685880" y="690480"/>
            <a:ext cx="3487680" cy="2614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143000" y="3610080"/>
            <a:ext cx="51055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50F2-F6F6-40B7-A22B-13AD8FD598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0E8DF-5C32-4BD8-8E7E-C3EC2FF565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62290-9610-4B67-95F2-D9848004AA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544A-BC35-4588-A948-BA6BE76A9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91DA7-4400-492E-8116-A2F25AC909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5E551-5F94-4013-BEA1-012BA5A2C7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52F34-C04A-4080-9B23-E7FA8F1E30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B9B90C-63CE-4E6D-88FF-3D79FF6180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55FB04-990C-4E8C-81F9-3CC5E59591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05ADB-01FD-4FA8-AE72-D2693AAD89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F78E2-9FDD-4856-9124-350659958B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4179-4527-47F3-948B-D5D3E88F67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3348E-B9BD-47E3-B6B2-5563F454026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845AB-70BE-409F-A0CF-1FA74B6F4A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2C20F7-78E4-4875-8A61-9159C34B5B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3CBAA0-8210-4726-B95E-38D93C92F3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D2C36-1908-46EC-B495-8559C25F4FF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D23AFE-992A-4B69-88FC-F84BABF0F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7823BE-51C7-42DD-A24B-8828B9A4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EB8494-B3E1-4CA9-BC7C-759B9E3C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FA505D-0930-4F33-B19D-9230D5DF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F0BEE8-C80C-44DE-AA93-CE068DEC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9E63A-C586-490A-8430-A9828DD6D26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9066A-6979-48D2-A964-C3917BF8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A54CFC-B2E4-432D-9EE3-7D6F9AD6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CC3C3E-B160-44C9-BFAD-81B9A468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FC6308-D877-4265-8C70-E0E2D200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22F6EB-8937-4B78-BFB9-C64C270D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3D2638-1065-45C5-AF8C-9E7FAB36D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5B7827-6E71-44A6-9711-52B7203F5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03FBD-CDF3-460E-BC4D-9C54BABA9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8633-2B5D-456C-BB5B-9DD617BD70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7C53C-D125-421F-A29B-FDE6378FC2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24B35-B22D-4CD5-81ED-7B6176AA5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B818C-1C29-4B59-8CCD-F67327737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6023-7591-40AC-AC67-7C523EB107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8A7B-A103-4903-A940-14EFEE4D5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F4E6-D8BF-4F61-80CA-842462673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F479E-C9FC-4C24-9E0A-818034EEC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ms.hhs.gov/DemoProjectsEvalRpts/downloads/MMA649_EHRc.pdf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Jody.Blatt@cms.hhs.gov" TargetMode="External"/><Relationship Id="rId3" Type="http://schemas.openxmlformats.org/officeDocument/2006/relationships/hyperlink" Target="http://www.cms.hhs.gov/DemoProjectsEvalRpts/MD/itemdetail.asp?filterType=none&amp;filterByDID=-99&amp;sortByDID=3&amp;sortOrder=ascending&amp;itemID=CMS057286" TargetMode="External"/><Relationship Id="rId4" Type="http://schemas.openxmlformats.org/officeDocument/2006/relationships/hyperlink" Target="mailto:mcmpdemo@cms.hhs.gov" TargetMode="External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Medicare Care Management Performance Demonstration</a:t>
            </a:r>
            <a:br>
              <a:rPr sz="3600"/>
            </a:br>
            <a:endParaRPr b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dy Blat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dicare Demonstrations Program Grou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enters for Medicare &amp; Medicaid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ahoma"/>
              </a:rPr>
              <a:t>EHR Vendor Meeting * March 27, 2007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152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an accessible version of this document, please click: </a:t>
            </a:r>
            <a:r>
              <a:rPr b="0" lang="en-US" sz="2000" spc="-1" strike="noStrike" u="sng">
                <a:solidFill>
                  <a:srgbClr val="00ccff"/>
                </a:solidFill>
                <a:uFillTx/>
                <a:latin typeface="Arial"/>
                <a:hlinkClick r:id="rId2"/>
              </a:rPr>
              <a:t>http://www.cms.hhs.gov/DemoProjectsEvalRpts/downloads/MMA649_EHRc.pdf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inical Quality Measures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6 meas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abetes – 8 meas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gestive Heart Failure – 7 meas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ronary Artery Disease – 6 meas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ventive Services – 5 meas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oal- Consistency of measure specifications with NQF,  DOQ-IT and other Medicare quality meas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A5B44-85AB-43AC-947D-654F1502F8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inical Quality Measures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57200" y="3029040"/>
          <a:ext cx="4038480" cy="20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029040"/>
                    <a:ext cx="4038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533520" y="1523880"/>
          <a:ext cx="8076960" cy="4800600"/>
        </p:xfrm>
        <a:graphic>
          <a:graphicData uri="http://schemas.openxmlformats.org/drawingml/2006/table">
            <a:tbl>
              <a:tblPr/>
              <a:tblGrid>
                <a:gridCol w="1931760"/>
                <a:gridCol w="2106720"/>
                <a:gridCol w="2209680"/>
                <a:gridCol w="1828800"/>
              </a:tblGrid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abe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HF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eventive Care  </a:t>
                      </a:r>
                      <a:r>
                        <a:rPr b="1" i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easured on population with specified chronic diseases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M-1 HbA1c Manag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F-1 Left Ventricular Function Assess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D-1 Antiplatelet Therap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-1 Blood Pressure  Measur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M-2 HbA1c Control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F-2 Left Ventricular Ejection Fraction Tes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D-2 Drug Therapy for Lowering LDL Cholestero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-5 Breast Cancer Screen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M-3 Blood Pressure Manag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F-3 Weight Measur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D-3 Beta Blocker Therapy – Prior MI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-6 Colorectal Cancer Screen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M-4 Lipid Measur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F-5 Patient Educ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D-5 Lipid Profil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-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luenza Vaccin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M-5 LDL Cholesterol Lev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F-6 Beta Blocker Therap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D-6 LDL Cholesterol Level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C-8 Pneumonia Vaccina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M-6 Urine Protein Tes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F-7 Ace Inhibitor /ARB Therap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AD-7 Ace Inhibitor / ARB  Therap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M-7 Eye Exa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F-8 Warfarin Therapy for Patients with AF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M-8 Foot Ex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264D9-DC80-42ED-8CAF-F6D270E393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inical Quality Data Collection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aims based measures will be automatically calcula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actices will have ability to supplement with information  from chart (e.g. ‘denominator’ exclusion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rt based measures may be reported manually from paper chart  or electronically from EH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MS will identify eligible patien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actices may exclude patients for medical or other applicable  reas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actices to submit data on all eligible patients unless number is large enough for valid sampl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8A3D9-6039-4D41-B3E3-821C279933A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inical Quality Data Collection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MS to provide electronic reporting too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ol “pre-populated” with demographic and/or clinical information from claims on beneficiaries eligible for measur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CMS contractor will identify patients to report 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st be “assigned” to pract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et diagnostic/demographic specifica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0% eligible patient reporting (in most case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 larger practices and/or measures affecting larger #s of patients, random sampling will be us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1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MS contractor will identify sample for practi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IOs available for technical assistance to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D558B-1CE5-4C87-A720-44DE495346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nitial Incentive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Pay for Reporting (P4R)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yment contingent upon reporting clinical measures for eligible beneficiaries during baseline year (200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portunity for practices to use reporting tools / learn data collection &amp; scoring methodology in risk free setting (scores will not affect initial incentive payment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 beneficiary per condition pay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 to $1000/physician; $5000/practi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asures may be submitted electronically but initial incentive (P4R) not eligible for 25% electronic reporting bon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a submission time frame: Aug-Sept ’07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6019920"/>
            <a:ext cx="4343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3B900-4BCA-48A2-A618-89152F724E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Annual Incentive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Pay for Performance (P4P)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42640" y="2819520"/>
            <a:ext cx="7086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formance on clinical measures determines pay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onus for electronic repor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e annual performance ye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uly – Ju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828800" y="6019920"/>
            <a:ext cx="4343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00C2-C9D6-4BE7-99EC-CA35149200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ay for Performance (P4P)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coring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2640" y="20574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0-5 points given for performance on each measure depending upon scor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ints within each category (DM, CHF, CAD, PC) summ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osite % calculated based on total possible points in each categor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parate payment for each category (DM, CHF, CAD, PS) based on number of beneficiaries with condition or, for preventive care, any chronic condi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93357-E267-415B-B24B-A078B1F8B0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ay for Performance (P4P):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inical Performance Incentive</a:t>
            </a:r>
            <a:br>
              <a:rPr sz="3600"/>
            </a:b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6629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ximum payment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each yea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or clinical performance incen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3 year demonstratio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 to $10,000 per physician /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 to $50,000 per practice /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E9F92-679F-46B9-A7D6-2D5393AE56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ncentive for Electronic Reporting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monstration goal to encourage implementation and adoption of HI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asures must be reported from a CCHIT certified EH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p to 25% bonus over clinical performance incentive (% determined by # measures reported electronicall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 bonus if clinical measure scores too low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seline data may be submitted electronically but not eligible for additional bon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fications public to encourage vendors to enhance EHR functionality to support repor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D68C7-3335-4BAF-AA6B-85E734C503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ummary: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 Total Potential Payments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tial “Pay for Reporting” Incentiv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p to $1,000/physician; $5,000/pract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nual “Pay for Performance” Incentiv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p to $10,000/physician; $50,000/practic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er y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nual Bonus for Electronic Reporting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258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p to 25% of clinical “pay for performance”  payment tied to # measures reported electronical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-32580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p to $2,500 per physicia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$12,500/practice </a:t>
            </a:r>
            <a:r>
              <a:rPr b="0" i="1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per y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61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aximum potential payment over 3 year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$38,500 per physician; $192,500/pract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5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6095880"/>
            <a:ext cx="3886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F097E-3155-40EF-8BD0-16A1DC6B83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Medicare Modernization Act: 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. 649. Medicare Care Management Performance Demonstration (MCMP)</a:t>
            </a:r>
            <a:endParaRPr b="1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…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The Secretary shall establish a pay-for-performance demonstration program with physicians to meet the needs of eligible beneficiaries through the adoption and use of health information technology and evidence-based outcomes measures…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GOAL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mprove quality and coordination of care for chronically ill Medicare FFS beneficia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mote adoption and use of information technology by small-medium sized physician pract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96A25-40E2-478B-B536-78B1C10FF9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valuation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239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ort to Congress due 12 months after demonst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MS &amp; AHRQ jointly funded contract with Mathematica Policy Research, Inc. (MP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valuation desig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n randomized, matched comparison gro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Q-IT practices in non demonstration sta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 of Medicare claims data, patient &amp; physician surveys, DOQ-IT office systems surve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811C1-FB49-4228-A04D-3003D60244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rcRect l="-996" t="0" r="0" b="0"/>
          <a:stretch/>
        </p:blipFill>
        <p:spPr>
          <a:xfrm>
            <a:off x="-92160" y="0"/>
            <a:ext cx="1800" cy="1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ime Frame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6858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te 2006 / Jan. 200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lications mailed to DOQ-IT pract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ril 15, 200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st date to submit applic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ff"/>
                </a:solidFill>
                <a:uFillTx/>
                <a:latin typeface="Tahoma"/>
              </a:rPr>
              <a:t>APPLICATIONS SHOULD BE SUBMITTED EARLY TO GET FULL CONSIDERATIO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y / June 200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ick off meetings in demonstration sta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llow up conference calls for additional Q &amp; 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2C40-95E1-4111-A6AF-F87C7FC867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rcRect l="-996" t="0" r="0" b="0"/>
          <a:stretch/>
        </p:blipFill>
        <p:spPr>
          <a:xfrm>
            <a:off x="-92160" y="0"/>
            <a:ext cx="1800" cy="14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ime Frame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ly 1, 200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monstration beg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ly – Sept. 200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ata collection for baseline reporting year (2006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QIOs provide T &amp; A to practices / serve as primary contact poi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nter 2007/200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yment for baseline reporting to pract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C2FC1-155F-4125-AD4C-4B22ED024B0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Time Frame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320" y="152388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e year demonstration peri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ar 1: July 2007 – June 2008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ar 2: July 2008 – June 20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ar 3: July 2009 – June 20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ical Data Collectio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ar 1: Fall 2008 /Winter 2009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ar 2: Fall 2009 /Winter 20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ear 1: Fall 2010 /Winter 2011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5A3DE-01B4-4857-A859-234ACB8EAD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Questions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A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Jody.Blatt@cms.hhs.go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Demonstrations Program Gro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ffice of Research, Development &amp; 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enters for Medicare &amp; Medicaid Servi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410) 786-692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monstration websi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http://www.cms.hhs.gov/DemoProjectsEvalRpts/MD/itemdetail.asp?filterType=none&amp;filterByDID=-99&amp;sortByDID=3&amp;sortOrder=ascending&amp;itemID=CMS05728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l: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mcmpdemo@cms.hhs.gov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7201080" y="0"/>
            <a:ext cx="1584000" cy="320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A28F4-340C-4D0B-BF8A-C897C5DC7E7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Overview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actice Eligi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eficiary Assig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ical Quality Meas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yme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y for Repor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y for Perform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entive for Electronic Repor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t Evalu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e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AD8A8-7471-41F8-B724-FD8DE3C0F4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actice Eligibility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26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demonstration stat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rkansas, California, Massachusetts &amp; Uta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rticipation  in DOQ-IT pro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mall – Medium sized pract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&lt;= 10 physicians (approx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cus on physicians providing primary care and/or care to patients with targeted condi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inimum number  of assigned FFS Medicare beneficiaries = 5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2C223-0668-46EF-AB84-2B25C953A8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Beneficiary Assignment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16761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neficiary assigned to practice with greatest # primary care visi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gorithm uses retrospective (reporting period) Medicare claims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neficiaries assigned at the practice level (vs. individual physicia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neficiaries assignment not ‘fixed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ignment can vary each year based on where patient received most care during reporting perio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8BDC7-07FC-4793-ACB9-2FA67DC6BF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Beneficiary Eligibility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7010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eficiary must have had traditional Medicare Fee for Service coverage (A &amp; B) for &gt;= 6 months in th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porting ye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neficiaries do NOT need to enro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eneficiaries remain free to see any Medicare provid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dicare must be primary insur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t in hosp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A01F1-4C61-4B1E-A71E-416CA47A3C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Beneficiary Eligibility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l assigned beneficiaries categorized based on diagnoses on claim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sc. chronic conditions*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pecific Chronic Condi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H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C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abet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i="1" lang="en-US" sz="1200" spc="-1" strike="noStrike">
                <a:solidFill>
                  <a:srgbClr val="ffffff"/>
                </a:solidFill>
                <a:latin typeface="Tahoma"/>
              </a:rPr>
              <a:t>Includes CHF, CAD, Other chronic cardiac or circulatory diseases, Diabetes, Alzheimer's and other mental health conditions, Kidney Disease, COPD and other chronic lung diseases, Cancer, Osteoporosis, and Arthriti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48320" y="2019240"/>
            <a:ext cx="4038480" cy="403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F37DF-BE36-4332-94E5-3DFD36091B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Beneficiary Eligibility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tegories not mutually exclusiv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neficiaries counted in each category for which they are eligib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signment process re-determined for each reporting ye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ignment in each year independent of previous/ future yea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2019240"/>
            <a:ext cx="4038480" cy="403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E1D21-41BC-4DB3-AE2F-37089375E8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Incentive Payment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ree componen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e-time, Initial "Pay for Reporting” of baseline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yment not contingent upon performance scor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nual “Pay for Performance”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yment for achieving quality benchmarks during demonstration y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38080" indent="-3808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nual EHR / Electronic Reporting Incent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onus for reporting quality measures electronically from a CCHIT certified EH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1C91A-28A7-46AF-9A97-903EAD44F1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13:38:33Z</dcterms:created>
  <dc:creator>LDuhl</dc:creator>
  <dc:description/>
  <dc:language>en-US</dc:language>
  <cp:lastModifiedBy>CMS</cp:lastModifiedBy>
  <dcterms:modified xsi:type="dcterms:W3CDTF">2008-08-07T14:13:36Z</dcterms:modified>
  <cp:revision>90</cp:revision>
  <dc:subject/>
  <dc:title>&lt;Presentation Title&gt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  <property fmtid="{D5CDD505-2E9C-101B-9397-08002B2CF9AE}" pid="3" name="_NewReviewCycle">
    <vt:lpwstr/>
  </property>
</Properties>
</file>